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77D-D8B5-4B6F-96E0-62F1510E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8D7-134D-4AE9-B264-9D73B12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B40-DB19-4982-8C14-76A7002C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0EB-1D42-4CE4-BF55-D2EA4D37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3E3-AD23-4E29-9CED-32D1F11A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470-0B7F-4FC1-8F2F-0DC858A3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D67-3FC9-4C4F-AD06-21D97CC6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38EC-D50F-421B-9EAA-71A050C0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CB5-ED34-42F9-92D7-7F870706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278-682D-4518-9B6F-F4BFB371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F62-ADB6-411B-9B4B-BD47016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38F-7A2B-4C0A-9753-97967790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D00F-0250-47B2-8AD1-442DF4937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15328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suasive Techniques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d In Commercials /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NDW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mmercial tells viewers / readers that everyone uses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91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/ readers buy the product (believe in the idea) because they want to fit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assume that if others buy it/idea, the product/idea must be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7760" y="152388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1680" y="15238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2316240" cy="176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EBRITY ENDORS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mmercial / idea shows a popular celebrity promoting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/ readers transfer the respect or admiration they have for the celebrity to the idea/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5480" y="167652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30280" y="16765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OTIONAL APP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3962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technique is intended to make viewers / readers feel certain emotions, such as happiness, sadness, guilt, or exci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0" y="2209680"/>
            <a:ext cx="4114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viewers / readers feel good about the idea /product, they may transfer that feeling to the idea /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6880" y="16398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8000" y="160020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48240" y="4172040"/>
            <a:ext cx="2476440" cy="230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UMOR / SAT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ow It’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0240" y="20570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ers remember the idea/ product and the commer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ers associate a positive feeling with the idea /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286000"/>
            <a:ext cx="4267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technique is intended to make the audience / readers laugh.  It often gives little information about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676520"/>
            <a:ext cx="403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57600" y="4819680"/>
            <a:ext cx="1666800" cy="20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DIVIDUA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TI-BANDWAG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6002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209680"/>
            <a:ext cx="4038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/ readers feel that if they buy the idea/product, they are expressing their individ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/ readers perceive the idea/product as unique, stylish, or “cool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286000"/>
            <a:ext cx="4038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mmercial tells viewers / readers to think differently; celebrate their own style; and rebel against what everyone else is saying, doing, or bu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523880"/>
            <a:ext cx="403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e Calling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COMPARISON - in counter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technique features a comparison between the product / ideas and its competition.  It depicts the competition as being inf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/ readers question the quality of the competing product / id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ers / readers believe that the featured idea product is sup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55760" y="1636560"/>
            <a:ext cx="313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5480" y="152712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5360" y="15271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stellar"/>
              </a:rPr>
              <a:t>Loaded Languag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R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ommercial is filled with words that have positive connotations attached to them, such as “tasty” or “sensational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5146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ords make the idea/ product seem more desir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ords appeal to the viewer’s / reader’s emotions, rather than their r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1440" y="167652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w It’s Use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71640" y="16765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nded 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1828800" cy="1003320"/>
          </a:xfrm>
          <a:prstGeom prst="rect">
            <a:avLst/>
          </a:prstGeom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needs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s to connect your ne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ment with the write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495680" cy="1949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3733920" cy="1428840"/>
          </a:xfrm>
          <a:prstGeom prst="rect">
            <a:avLst/>
          </a:prstGeom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</p:pic>
      <p:sp>
        <p:nvSpPr>
          <p:cNvPr id="87" name=""/>
          <p:cNvSpPr/>
          <p:nvPr/>
        </p:nvSpPr>
        <p:spPr>
          <a:xfrm>
            <a:off x="4343400" y="5181480"/>
            <a:ext cx="464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This example came from an ad for a low fat frozen dinner. What basic need does it appeal 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6:31:06Z</dcterms:created>
  <dc:creator>student</dc:creator>
  <dc:description/>
  <dc:language>en-US</dc:language>
  <cp:lastModifiedBy>San Diego City Schools</cp:lastModifiedBy>
  <dcterms:modified xsi:type="dcterms:W3CDTF">2011-11-28T16:57:19Z</dcterms:modified>
  <cp:revision>23</cp:revision>
  <dc:subject/>
  <dc:title>Persuasive Techniques Used In Commercials</dc:title>
</cp:coreProperties>
</file>